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CEC-7792-480A-AADC-AA0ABD16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A41-677F-4F5C-85D9-187EF7B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2BB34-F031-4D6D-9FA8-0E85558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3EA58-9273-40A8-AE04-5C019598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0F4C2-7FCE-47D9-B444-F4896C3D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A4132-7AF0-49DA-B6F7-B68CDCF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18C7A-2C46-46DD-B80E-5AA2BDD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E7996-5C7E-4DED-980F-AF80A418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D106F-1279-4056-8DCB-B4D618ED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871B8-7FD0-4703-BB34-A013604F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30478-5F82-4307-AEF3-D5C7E6E5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67357-985F-4A02-BB48-1EC2DDE5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CF8-C0B5-4976-856A-DD8358B8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4F254-C13A-4E1D-9F7A-CA6052F0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73C1B-168A-4537-B00A-94846ED3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7D542-41E4-4E28-A60C-45BAEB65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7230D-844E-48A6-868E-6B4C1621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72B8B-0725-4808-9282-1B9F4AC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05853-886F-49C0-831F-9629280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89E86-5F18-41A7-A919-9487138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BD812-2189-4EFC-95F0-304D700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74C98-1919-4687-B1F7-20784003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8632F-693F-4689-B8A0-1821E01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566-64F8-4CDD-B799-EE779CD6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730F6-BDAB-46F0-83C5-455E587F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C2A5-187E-4F98-9250-98879C1F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4D8BE-B2A7-4DB5-9204-36CB8341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50C17-3BC6-4B2E-A1A3-6B84043F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67DE-D63E-4F78-AFFC-9116B57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8551C-392E-4559-AC71-018C2E91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CF462-A71C-471F-B2FB-F07E6DA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D337F-A2DD-4840-9C3D-57788B2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8A2EE-10E2-4C74-8520-C86C48BE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9DFAA-6E50-4E53-B44B-C4FF1D8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5E03-5645-45AA-91EC-1A674DBD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EBEB0-56A9-47FB-BFE2-8C3797F9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20634-601F-46C2-BD40-5DC93BBB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7E3B6-9FB5-4F92-A4DC-19C6F76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3433-CB45-4336-8C89-16686901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F000F-3D96-4C72-9D32-9517F827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4CE0-6E32-4035-9199-8C17E7E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421B1-CFA0-4FC0-8E83-85F6896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C7C7B-865D-442D-AF6D-17021CE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6A538-8127-45B0-88D1-15F3A0E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51D14-DFD6-4487-9BDA-B02284C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CFC1-AE6E-420C-9AD0-0AEBF9C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C6FC6-A93B-4A11-A890-9966652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176D5-5B67-47BF-80D9-C74E1E2B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0FC7-B8F0-43F7-A471-5A60D7A8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BDA80-ECF9-4598-A00E-6EA19A4F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CD53-A5AD-4EEC-8BC5-3662BF6F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BC25-D701-4162-B093-6840219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D368-5429-4047-A630-7642F444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C12-DEAF-41BF-9FD5-428699D2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726D-70A4-4D9C-A719-32DA190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D7CC-85BF-46AF-B8DF-577FC0BF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721-4477-4D0F-B9D2-E81AAB1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444-BA6A-487C-B8C2-A4F1F2C2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239-8ACC-412A-8C34-617E9CD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8F14-8D73-4F99-AA6D-D8DC7888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4F0-D67F-4258-A4CC-03FB905C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ACD-FDEE-41E2-9695-48854D85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9FF1-345D-4449-B010-5218A71E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BDA3-A51D-4A0B-B49E-C98FA73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9316-EDFB-42B0-9F9E-278F55FE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0624-6A49-4087-93B9-18BA4B82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346E-43A1-4F85-B143-0BF7D08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0E1-83E0-4955-B12F-37E4B7C2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C0D6-C064-4150-A269-92D81B76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CB6E-5670-429C-9B61-08A1677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F3D6-8F03-4807-8E47-3F4B5D3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98FA-5695-441E-A67E-46D701F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5EF1-BFA3-4DBD-B4D7-99BCB0D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57A8-6102-47E9-9884-4969F834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FB73-34A1-45AE-84E4-EE2E3CF6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8294-542F-4FA8-9C65-21063545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9FAD-8039-484F-BE30-7485A1F3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66EC-BE68-4C75-A909-8B77569D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621-73C5-4699-BC18-38A4C5CE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7B13-2029-48D2-98CD-15AA21C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4EAF-B188-40FE-BCE3-583C5C4C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23D8-140A-4B0C-826B-3A3204D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7022-8957-4463-9D82-92403A9F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857D-DE29-423F-BC0A-8F00E6F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FAEB8-6C9F-40A2-9B02-9AA7B92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0A30-169F-453F-ACD5-4189FFF3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24F3-5051-405D-B691-FCC34F9B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97CDF-5664-44C6-BD46-C2D96C76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97227-B5DE-41C0-959F-2E3A2812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F6-108B-4325-8E75-A9DBD4B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52BD5-AB51-4D42-B187-D948516C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EB86-2BCD-4887-8B5B-BD4F371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E0C4-FB76-4FEC-800B-67BED89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9D98-0355-41A1-A073-80A50B8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4B77-284A-47EC-BD47-36194A5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CA272-ED21-42D9-A14C-AEBA595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09995-0D17-4F38-90C7-ECC2032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6AB4-A0A4-4404-911E-41DBC67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6327-122E-4431-AF47-278AFC4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EF4C3-4561-4C86-8E71-E4C495E4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C2A-112D-480E-A4B1-2CBEB89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EEAB-35E7-46F9-BEF0-69BC563C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7DDD2-CBC6-410C-A9A5-54EF642A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46276-9893-4682-9EC7-B2A760D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C215A-FE28-4311-8554-45D8BC11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50206-DFCD-44A6-BE20-18C65BA4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92208-99DF-465D-8BC6-017DF661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D0278-592D-4F40-8638-63C3729D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EEDCC-1D5A-46C3-BE51-CD51E37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7E9B0A-4D1E-475D-B2B6-F41EEE8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6E25E-BDAF-4FF3-ADBB-B481BE2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E60-2C2D-45E8-BAA6-959C45E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6B6FC-CFC7-4F73-8256-BC00699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9F0E8-B61D-4AE5-9639-78E9C65F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8A0E6-EB58-4A4D-A471-9EA65FBD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98A7-88CC-4687-BCE9-6BE9A8D8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0E50-F667-4612-90C9-6925FFE2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90B1-102E-4D04-92D3-75C685A0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F01D-75C9-474B-9BDA-ED51C3B9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205E-7226-46BF-B29A-A0C9512F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1037-0248-4892-9579-8BC7894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6841-236A-4C29-B159-CFF6B7F2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A14-2E25-4799-97EC-52AC700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299A-5976-4B83-91BD-D76DE0D0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D4A0-CA90-423A-A273-DECEC07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E484-D06D-47A2-9E35-8F8AF361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65D2-8852-470E-B992-C9054AB1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D52EB-E910-48FB-A17E-8FEA515D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6E5DE-3BD6-4461-872F-63470CD1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05A3C-CB13-486D-85CD-7D7523F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CD51-D798-49DF-8150-4E3039F9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DB082-759C-4FA8-80A6-4FD9EB02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A6ED-52C4-4E2C-8D4F-046FE0B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050-7A8A-4B4F-BD4C-78251DEE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473FF-5903-48FC-9A55-7BDEB9C1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0F4E-8C0F-4277-A5A6-4FBC8881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45FBE-0427-4BEB-9D66-8F4BCAE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E7A5-65E0-4EF0-BCB3-CB672BAE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7CCFB-0FE2-4464-A2FB-DC0C7E0D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DABFF-2754-4EE1-A07E-2974555A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CFA8E-262B-402C-A90E-13EBEBC5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81029-E5F1-4F42-9081-5356CD1F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742F4-AFF6-47AE-9FBE-27BE0DC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A10D5-06B6-4FD4-B6B8-48FFA0C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90A5-15B9-4B37-9162-625415BC4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4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6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849-1C3D-487D-A6EE-A15EAB4D06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6482-3400-4025-A42F-F7A502767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F98E-EDAB-4936-85BE-D04EA7C3D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93EE-D367-4542-9A83-04CFF36A5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32D-15D8-42E2-877F-6E687B88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1AE-2E33-4FBD-8353-80F907DD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BC1B-F245-49BB-BC17-E4F4A268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0DFA-AC24-403E-AFF4-E459113E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4209-E242-415B-97D3-FA7E615B9E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B9AF-1C2D-4670-A60D-1F86F0E5CD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02E8-8923-435E-9EFE-DA88E036F5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La Mansi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  <a:ea typeface="Arial"/>
              </a:rPr>
              <a:t>ó</a:t>
            </a: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n!!!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ench Script MT"/>
              </a:rPr>
              <a:t>Por Hannah Davidse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867280" cy="3833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93840"/>
            <a:ext cx="46483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La Mansi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  <a:ea typeface="Arial"/>
              </a:rPr>
              <a:t>ó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n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 Es muy moderna y fant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1828800" y="3048120"/>
            <a:ext cx="5486400" cy="35859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 Es muy grande y increible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4800600" cy="3510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muy lujosa y boni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rcRect l="0" t="16073" r="0" b="16073"/>
          <a:stretch/>
        </p:blipFill>
        <p:spPr>
          <a:xfrm>
            <a:off x="1752480" y="2819520"/>
            <a:ext cx="4800600" cy="3257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19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moderno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762800" cy="31626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463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. Es muy fabuloso y estupendo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486400" cy="2836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lujoso y estupen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468648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503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muy grande y bonit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jard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Arial"/>
              </a:rPr>
              <a:t>í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 Es muy bello y gran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23623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8:18Z</dcterms:created>
  <dc:creator>davidsenhan</dc:creator>
  <dc:description/>
  <dc:language>en-US</dc:language>
  <cp:lastModifiedBy>davidsenhan</cp:lastModifiedBy>
  <dcterms:modified xsi:type="dcterms:W3CDTF">2011-10-26T13:41:53Z</dcterms:modified>
  <cp:revision>7</cp:revision>
  <dc:subject/>
  <dc:title>La Mansion!!!</dc:title>
</cp:coreProperties>
</file>